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49.png" ContentType="image/png"/>
  <Override PartName="/ppt/media/image47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25.png" ContentType="image/png"/>
  <Override PartName="/ppt/media/image11.jpeg" ContentType="image/jpeg"/>
  <Override PartName="/ppt/media/image17.png" ContentType="image/png"/>
  <Override PartName="/ppt/media/image20.png" ContentType="image/png"/>
  <Override PartName="/ppt/media/image57.png" ContentType="image/png"/>
  <Override PartName="/ppt/media/image58.png" ContentType="image/png"/>
  <Override PartName="/ppt/media/image67.jpeg" ContentType="image/jpeg"/>
  <Override PartName="/ppt/media/image21.png" ContentType="image/png"/>
  <Override PartName="/ppt/media/image77.png" ContentType="image/png"/>
  <Override PartName="/ppt/media/image61.jpeg" ContentType="image/jpeg"/>
  <Override PartName="/ppt/media/image24.png" ContentType="image/png"/>
  <Override PartName="/ppt/media/image73.jpeg" ContentType="image/jpeg"/>
  <Override PartName="/ppt/media/image65.png" ContentType="image/png"/>
  <Override PartName="/ppt/media/image10.jpeg" ContentType="image/jpeg"/>
  <Override PartName="/ppt/media/image2.png" ContentType="image/png"/>
  <Override PartName="/ppt/media/image72.jpeg" ContentType="image/jpeg"/>
  <Override PartName="/ppt/media/image14.png" ContentType="image/png"/>
  <Override PartName="/ppt/media/image70.jpeg" ContentType="image/jpeg"/>
  <Override PartName="/ppt/media/image35.png" ContentType="image/png"/>
  <Override PartName="/ppt/media/image6.jpeg" ContentType="image/jpeg"/>
  <Override PartName="/ppt/media/image71.png" ContentType="image/png"/>
  <Override PartName="/ppt/media/image29.png" ContentType="image/png"/>
  <Override PartName="/ppt/media/image69.jpeg" ContentType="image/jpeg"/>
  <Override PartName="/ppt/media/image1.png" ContentType="image/png"/>
  <Override PartName="/ppt/media/image68.jpeg" ContentType="image/jpeg"/>
  <Override PartName="/ppt/media/image31.png" ContentType="image/png"/>
  <Override PartName="/ppt/media/image22.png" ContentType="image/png"/>
  <Override PartName="/ppt/media/image66.jpeg" ContentType="image/jpeg"/>
  <Override PartName="/ppt/media/image48.png" ContentType="image/png"/>
  <Override PartName="/ppt/media/image63.png" ContentType="image/png"/>
  <Override PartName="/ppt/media/image60.jpeg" ContentType="image/jpeg"/>
  <Override PartName="/ppt/media/image30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74.jpeg" ContentType="image/jpeg"/>
  <Override PartName="/ppt/media/image23.png" ContentType="image/png"/>
  <Override PartName="/ppt/media/image13.jpeg" ContentType="image/jpeg"/>
  <Override PartName="/ppt/media/image44.png" ContentType="image/png"/>
  <Override PartName="/ppt/media/image75.jpeg" ContentType="image/jpeg"/>
  <Override PartName="/ppt/media/image5.jpeg" ContentType="image/jpeg"/>
  <Override PartName="/ppt/media/image50.png" ContentType="image/png"/>
  <Override PartName="/ppt/media/image28.png" ContentType="image/png"/>
  <Override PartName="/ppt/media/image39.png" ContentType="image/png"/>
  <Override PartName="/ppt/media/image64.jpeg" ContentType="image/jpeg"/>
  <Override PartName="/ppt/media/image8.png" ContentType="image/png"/>
  <Override PartName="/ppt/media/image38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9.jpeg" ContentType="image/jpeg"/>
  <Override PartName="/ppt/media/image3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22453-AF0A-47E9-92A9-9346F4B5E7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7416C-B9CF-4E03-AEFE-25FC5937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15D8E-6383-44B5-B179-BF23AC0A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C404F-C2DC-4530-A479-2AD96A6C55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63CA7-6674-4DD1-964A-C759EE463F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082BC-6C9A-4488-89D8-FB22D121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46F773-4ED0-4C7E-B425-1F39DDB1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0E2D7-2CEF-4150-B094-45C55687E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19D8A-5E91-432F-98A5-B4BDDD5E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F2A4E-66BB-47C7-9E27-8B4E048A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A3780-CD96-489B-9D5A-94C1EDFD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8717-E8C0-4977-9362-377070C4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57149-7283-476B-9C2A-C576B2246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E33DF-3243-46F2-99E6-C9265464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0236A-7E64-449C-90F8-7B1110AE9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F296D5-C9EA-4732-891A-4196C2A8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7389A-A833-4F21-AD91-0C26C034416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DAA9-385B-4549-BFBD-17ABCB85EC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0AAE-68E7-45EE-BF69-F1EE3914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40F4-6E29-4EEC-A83D-571D2C0F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8515-B7B5-4A04-B9F5-3728F506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000B-EEA5-44DD-A6D6-6CA86C903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9E823-5255-4C16-B4D8-AF7FF676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2C15-2E5E-4EA8-93CC-C8698E53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3A93-AF3B-467A-AAC2-21F5F0D7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8539-7614-4FB1-AB41-9556ECB8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8FAA-E69D-4260-B928-39277D2D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60B5-5FB2-44AE-AAF8-38CAC47D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D3506-202B-4B67-91B9-CCF2DF00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AA3D-FE84-4CA6-835F-F24FA19665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F11C46-026A-4FA6-AD89-A605E603FE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C677A4-A0E0-4612-B810-E1227390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BDD7D-9EB2-4E70-84F1-91451D18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C1396-FE19-4CA5-9308-A641F629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309D7-8C1A-4B4B-810D-BFAE8D81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846087-0AA0-4E77-ABD9-BF5F0C6A5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F56A7-E83C-48AA-8330-5DA801A0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A4133-66A0-48AA-8932-430A02F3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37891-B74A-4E2D-9399-0B663E88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B8E1F4-2D90-4527-B041-A2049F11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9C0DA-048D-430C-806F-154DB879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9B5B0-6F48-40C1-A365-95D2B58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BBCBBA-5AC0-4DC9-BE54-60ABC0E9EB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E521F3-8379-469A-9CF9-716D6EBF9F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371F4-416C-4121-9509-8B1188C9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B4A883-A715-48C4-909D-CB24CB74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DF521-6CBE-4E67-867E-534E84C11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B1AE34-C481-46D8-9D33-3DF0ED221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766731-D170-4824-9C9F-02548740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ABDE9E-CC7B-4C05-9B9E-761F2FC1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21FC6-8E9F-444A-ACC8-5E8D48E4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DF49BE-4C03-4D1B-9855-CB4BA196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9BB791-FFDC-4139-A3B4-9B8C3F94D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3FB6F5-6DA2-4D04-A438-067DBE73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78A634-753D-4043-9D16-7304ECE1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91787-B25F-4275-AA85-96B2DED5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5FFB1E-7242-4A13-8181-5E5A01666D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EC428-34B5-4443-A481-942C6B13A3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AF895-518D-42F8-A980-253679B0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CB151-1680-42AA-9B36-E6AA3234B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16DD4-8309-46E6-A279-DED411A1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672EA-79DC-46BB-84E5-652C0445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50AC-4AC8-4D3B-8B58-3F3CB7C0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1E9AF-3326-48BE-888D-551E4920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69F5-6B19-4A16-B612-209E549B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F6825-3251-40AF-8180-9A39F77E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DBD28-F1D4-43C7-B460-9B1CA42B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CEB9A-6917-4D21-9559-38C8D460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E1BBA-62F8-41B1-9334-0D993B5E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566A21-DAEA-4B37-870D-4F57B4425A4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C5AEBB-6C19-4639-8BC6-8CC1C01D23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03C12F-F925-45FB-9C7C-B287FE3C9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C3541-8445-4DB3-8DBF-FF0AE4F4A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11F72-7189-46D8-BA5F-844BA9E4C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8953E-D774-44DF-94E8-0C750EEF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893634-8DA4-4E49-B36A-DE8E96312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B30496-F7DA-4846-9988-B8ABCB355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2EB3-2314-4322-8D9D-4F679EBC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A2FDFF-D977-47CC-8E27-0D6C1B6A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0C4141-9F41-4703-83CD-B3B38CF9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A68473-0767-460F-BF0C-4E9A93A7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99FB4-5382-4221-A3CF-0B6CC129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62A7E-79C6-422E-B803-8B60DD0506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68D9B6-181B-47EA-AC65-5A9A5DC44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EDEE97-0C3D-4B20-8363-DED10C551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61C023-1695-4E6B-8578-5267CF67A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C3B47FC-AF95-411B-9E01-F01F0620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010350-4956-4032-AFF5-6228785D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26485-E07D-4B86-AB2E-74985B53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74600"/>
            <a:ext cx="8228160" cy="62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41E7AE-3912-4293-97E0-6F3E0C03E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22744A-B3FB-4DA3-BD3F-AEBD8E79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A7C843-D382-4868-8D7E-A78FF856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AD3814-A069-4408-B246-EDE76228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397B79-C4C7-4D6A-B85F-58022F27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3B1072-23A7-47EA-AA69-D961A68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88A05C-1897-4BEA-9FAC-AB366F2C590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77560" y="6420240"/>
              <a:ext cx="16995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344D79-D374-4C5C-A598-D04463FD25D3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4abbe0"/>
              </a:gs>
              <a:gs pos="50000">
                <a:srgbClr val="007897"/>
              </a:gs>
              <a:gs pos="100000">
                <a:srgbClr val="4abbe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-3240" y="4952880"/>
            <a:ext cx="9145800" cy="1909800"/>
            <a:chOff x="-3240" y="4952880"/>
            <a:chExt cx="9145800" cy="1909800"/>
          </a:xfrm>
        </p:grpSpPr>
        <p:sp>
          <p:nvSpPr>
            <p:cNvPr id="49" name="AutoShape 3"/>
            <p:cNvSpPr/>
            <p:nvPr/>
          </p:nvSpPr>
          <p:spPr>
            <a:xfrm>
              <a:off x="1693440" y="4952880"/>
              <a:ext cx="744228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45720" y="5235480"/>
              <a:ext cx="9091800" cy="785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Group 5"/>
            <p:cNvGrpSpPr/>
            <p:nvPr/>
          </p:nvGrpSpPr>
          <p:grpSpPr>
            <a:xfrm>
              <a:off x="2880" y="4992840"/>
              <a:ext cx="9137880" cy="1869840"/>
              <a:chOff x="2880" y="4992840"/>
              <a:chExt cx="9137880" cy="1869840"/>
            </a:xfrm>
          </p:grpSpPr>
          <p:pic>
            <p:nvPicPr>
              <p:cNvPr id="5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2880" y="4992840"/>
                <a:ext cx="9137880" cy="18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Text Box 7"/>
              <p:cNvSpPr/>
              <p:nvPr/>
            </p:nvSpPr>
            <p:spPr>
              <a:xfrm>
                <a:off x="8640" y="5000400"/>
                <a:ext cx="1440" cy="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Picture 8" descr=""/>
            <p:cNvPicPr/>
            <p:nvPr/>
          </p:nvPicPr>
          <p:blipFill>
            <a:blip r:embed="rId3"/>
            <a:stretch/>
          </p:blipFill>
          <p:spPr>
            <a:xfrm>
              <a:off x="-3240" y="4986360"/>
              <a:ext cx="914580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5C0D89-934D-454C-9BFA-F0D265C09B7C}" type="slidenum">
              <a:rPr b="0" lang="es-C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99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5"/>
            <p:cNvSpPr/>
            <p:nvPr/>
          </p:nvSpPr>
          <p:spPr>
            <a:xfrm>
              <a:off x="277560" y="6420240"/>
              <a:ext cx="16995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Picture 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7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8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38FBB15-19AC-4B88-B5ED-FD312E5C1F0C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1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2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148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5"/>
            <p:cNvSpPr/>
            <p:nvPr/>
          </p:nvSpPr>
          <p:spPr>
            <a:xfrm>
              <a:off x="277560" y="6420240"/>
              <a:ext cx="16995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Picture 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0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5979081-153E-4AB9-8515-10ECBEE2FBC6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42C73E-271B-4642-9A1F-0BE1F3AB2ED3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AutoShape 1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AutoShape 2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236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5"/>
            <p:cNvSpPr/>
            <p:nvPr/>
          </p:nvSpPr>
          <p:spPr>
            <a:xfrm>
              <a:off x="277560" y="6420240"/>
              <a:ext cx="16995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8" name="Picture 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FBBDBD-56BC-4B14-81FA-2F9BA0D47F04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FF9E7C-9130-4EDD-B122-405DC9028CB0}" type="slidenum">
              <a:rPr b="0" lang="es-CO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1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2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24" name="Picture 4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Text Box 5"/>
            <p:cNvSpPr/>
            <p:nvPr/>
          </p:nvSpPr>
          <p:spPr>
            <a:xfrm>
              <a:off x="277560" y="6420240"/>
              <a:ext cx="1699560" cy="35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26" name="Picture 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7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AutoShape 8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fc4dd"/>
              </a:gs>
              <a:gs pos="100000">
                <a:srgbClr val="1389a6"/>
              </a:gs>
            </a:gsLst>
            <a:lin ang="16200000"/>
          </a:gradFill>
          <a:ln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5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4379760" y="6313320"/>
            <a:ext cx="23511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O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B09C89-6942-45CE-AC86-DFB3477B2FC4}" type="slidenum">
              <a:rPr b="0" lang="es-CO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0" name="Group 1"/>
          <p:cNvGrpSpPr/>
          <p:nvPr/>
        </p:nvGrpSpPr>
        <p:grpSpPr>
          <a:xfrm>
            <a:off x="682560" y="1384200"/>
            <a:ext cx="8204400" cy="2211480"/>
            <a:chOff x="682560" y="1384200"/>
            <a:chExt cx="8204400" cy="2211480"/>
          </a:xfrm>
        </p:grpSpPr>
        <p:pic>
          <p:nvPicPr>
            <p:cNvPr id="371" name="Picture 2" descr=""/>
            <p:cNvPicPr/>
            <p:nvPr/>
          </p:nvPicPr>
          <p:blipFill>
            <a:blip r:embed="rId1"/>
            <a:stretch/>
          </p:blipFill>
          <p:spPr>
            <a:xfrm>
              <a:off x="682560" y="1384200"/>
              <a:ext cx="8204400" cy="22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 Box 3"/>
            <p:cNvSpPr/>
            <p:nvPr/>
          </p:nvSpPr>
          <p:spPr>
            <a:xfrm>
              <a:off x="682560" y="1384200"/>
              <a:ext cx="8204400" cy="22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Cisterna o Tan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odo tipo de carga gaseosa o líquida. Posee cierre hermético para evitar fugas o derra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3" descr=""/>
          <p:cNvPicPr/>
          <p:nvPr/>
        </p:nvPicPr>
        <p:blipFill>
          <a:blip r:embed="rId1"/>
          <a:stretch/>
        </p:blipFill>
        <p:spPr>
          <a:xfrm>
            <a:off x="2357280" y="2808360"/>
            <a:ext cx="310356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abierta para gra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carga a granel principalmente, pero no exclusivamente, puede ser cerra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2714760" y="3022560"/>
            <a:ext cx="310356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con Estac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rincipalmente, pero no únicamente, para transporte de animales vivos como ganado bovino o porcin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2897280" y="3022560"/>
            <a:ext cx="32464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Góndola para Transporte de Vehícul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ransporte vehicular con variaciones para vehículos nuevos o maquinaria que necesitan protección contra el medio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3" descr=""/>
          <p:cNvPicPr/>
          <p:nvPr/>
        </p:nvPicPr>
        <p:blipFill>
          <a:blip r:embed="rId1"/>
          <a:stretch/>
        </p:blipFill>
        <p:spPr>
          <a:xfrm>
            <a:off x="2968560" y="3022560"/>
            <a:ext cx="32464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1"/>
          <p:cNvSpPr/>
          <p:nvPr/>
        </p:nvSpPr>
        <p:spPr>
          <a:xfrm>
            <a:off x="457200" y="148104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Plataforma multi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ransporte vehicular, no protege contra el medio amb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3" name="Picture 3" descr=""/>
          <p:cNvPicPr/>
          <p:nvPr/>
        </p:nvPicPr>
        <p:blipFill>
          <a:blip r:embed="rId1"/>
          <a:stretch/>
        </p:blipFill>
        <p:spPr>
          <a:xfrm>
            <a:off x="2540160" y="3022560"/>
            <a:ext cx="3746520" cy="20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Plataforma para Máquina Pes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ransportar maquinaria pesada de grandes dimensiones como excavadoras y maquinarias de construcció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3" descr=""/>
          <p:cNvPicPr/>
          <p:nvPr/>
        </p:nvPicPr>
        <p:blipFill>
          <a:blip r:embed="rId1"/>
          <a:stretch/>
        </p:blipFill>
        <p:spPr>
          <a:xfrm>
            <a:off x="2540160" y="3022560"/>
            <a:ext cx="3674880" cy="18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Plataforma para Carga sobre dimension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ransportar carga pesada de grandes dimensiones como madera (troncos o láminas), tubería de acero o vari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Especificacione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Depende del fabrica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9" name="Picture 3" descr=""/>
          <p:cNvPicPr/>
          <p:nvPr/>
        </p:nvPicPr>
        <p:blipFill>
          <a:blip r:embed="rId1"/>
          <a:stretch/>
        </p:blipFill>
        <p:spPr>
          <a:xfrm>
            <a:off x="2825640" y="3022560"/>
            <a:ext cx="3032280" cy="17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"/>
          <p:cNvGrpSpPr/>
          <p:nvPr/>
        </p:nvGrpSpPr>
        <p:grpSpPr>
          <a:xfrm>
            <a:off x="298440" y="268200"/>
            <a:ext cx="8393040" cy="1157400"/>
            <a:chOff x="298440" y="268200"/>
            <a:chExt cx="8393040" cy="1157400"/>
          </a:xfrm>
        </p:grpSpPr>
        <p:pic>
          <p:nvPicPr>
            <p:cNvPr id="431" name="Picture 2" descr=""/>
            <p:cNvPicPr/>
            <p:nvPr/>
          </p:nvPicPr>
          <p:blipFill>
            <a:blip r:embed="rId1"/>
            <a:stretch/>
          </p:blipFill>
          <p:spPr>
            <a:xfrm>
              <a:off x="298440" y="268200"/>
              <a:ext cx="839304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 Box 3"/>
            <p:cNvSpPr/>
            <p:nvPr/>
          </p:nvSpPr>
          <p:spPr>
            <a:xfrm>
              <a:off x="298440" y="268200"/>
              <a:ext cx="839304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3" name="Group 4"/>
          <p:cNvGrpSpPr/>
          <p:nvPr/>
        </p:nvGrpSpPr>
        <p:grpSpPr>
          <a:xfrm>
            <a:off x="857160" y="1500120"/>
            <a:ext cx="3141720" cy="1417680"/>
            <a:chOff x="857160" y="1500120"/>
            <a:chExt cx="3141720" cy="1417680"/>
          </a:xfrm>
        </p:grpSpPr>
        <p:pic>
          <p:nvPicPr>
            <p:cNvPr id="434" name="Picture 5" descr=""/>
            <p:cNvPicPr/>
            <p:nvPr/>
          </p:nvPicPr>
          <p:blipFill>
            <a:blip r:embed="rId2"/>
            <a:stretch/>
          </p:blipFill>
          <p:spPr>
            <a:xfrm>
              <a:off x="857160" y="1500120"/>
              <a:ext cx="3141720" cy="141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Text Box 6"/>
            <p:cNvSpPr/>
            <p:nvPr/>
          </p:nvSpPr>
          <p:spPr>
            <a:xfrm>
              <a:off x="857160" y="1500120"/>
              <a:ext cx="3141720" cy="14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6" name="Picture 7" descr=""/>
          <p:cNvPicPr/>
          <p:nvPr/>
        </p:nvPicPr>
        <p:blipFill>
          <a:blip r:embed="rId3"/>
          <a:stretch/>
        </p:blipFill>
        <p:spPr>
          <a:xfrm>
            <a:off x="4500720" y="1500120"/>
            <a:ext cx="4071960" cy="221472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8"/>
          <p:cNvSpPr/>
          <p:nvPr/>
        </p:nvSpPr>
        <p:spPr>
          <a:xfrm>
            <a:off x="642960" y="414324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ANCHURA MAXIMA FRENTE: Esta dimensión está basada en la anchura de las rutas y preservar de roces por infringir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ONGITUD VEHICULO RIGIDO (2,3,4 ejes): Medidas autorizadas incluyendo la Caja Carga (10m)  (Se excluye autobus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9"/>
          <p:cNvSpPr/>
          <p:nvPr/>
        </p:nvSpPr>
        <p:spPr>
          <a:xfrm>
            <a:off x="642960" y="3105000"/>
            <a:ext cx="62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ANCHURA MAX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FR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Group 2"/>
          <p:cNvGrpSpPr/>
          <p:nvPr/>
        </p:nvGrpSpPr>
        <p:grpSpPr>
          <a:xfrm>
            <a:off x="428760" y="1214280"/>
            <a:ext cx="3641760" cy="1355760"/>
            <a:chOff x="428760" y="1214280"/>
            <a:chExt cx="3641760" cy="1355760"/>
          </a:xfrm>
        </p:grpSpPr>
        <p:pic>
          <p:nvPicPr>
            <p:cNvPr id="441" name="Picture 3" descr=""/>
            <p:cNvPicPr/>
            <p:nvPr/>
          </p:nvPicPr>
          <p:blipFill>
            <a:blip r:embed="rId1"/>
            <a:stretch/>
          </p:blipFill>
          <p:spPr>
            <a:xfrm>
              <a:off x="428760" y="1214280"/>
              <a:ext cx="364176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Text Box 4"/>
            <p:cNvSpPr/>
            <p:nvPr/>
          </p:nvSpPr>
          <p:spPr>
            <a:xfrm>
              <a:off x="428760" y="1214280"/>
              <a:ext cx="364176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43" name="Picture 5" descr=""/>
          <p:cNvPicPr/>
          <p:nvPr/>
        </p:nvPicPr>
        <p:blipFill>
          <a:blip r:embed="rId2"/>
          <a:stretch/>
        </p:blipFill>
        <p:spPr>
          <a:xfrm>
            <a:off x="4572000" y="1214280"/>
            <a:ext cx="4143240" cy="15051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285840" y="3000240"/>
            <a:ext cx="428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ONGITUD MAXIMA TOTAL: Comienzo a final del remolque: máximo:16.40m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tancia entre eje posterior vehículo y remolque: mínimo: 3m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ongitud total Unidad: máximo: 18.75m (incluyendo cabina y espaci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786200" y="3071880"/>
            <a:ext cx="3786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ONGITUD MAXIMA TOTAL - TRANSPORTE VEHICULOS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áxima:20.55m (Utilizando soporte trasero autorizado)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No pudiendo sobresalir en relación carga salvo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'que el último eje del vehículo descanse sobre estructura remolque'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Group 1"/>
          <p:cNvGrpSpPr/>
          <p:nvPr/>
        </p:nvGrpSpPr>
        <p:grpSpPr>
          <a:xfrm>
            <a:off x="195120" y="268200"/>
            <a:ext cx="8526600" cy="1157400"/>
            <a:chOff x="195120" y="268200"/>
            <a:chExt cx="8526600" cy="1157400"/>
          </a:xfrm>
        </p:grpSpPr>
        <p:pic>
          <p:nvPicPr>
            <p:cNvPr id="447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5266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3"/>
            <p:cNvSpPr/>
            <p:nvPr/>
          </p:nvSpPr>
          <p:spPr>
            <a:xfrm>
              <a:off x="195120" y="268200"/>
              <a:ext cx="852660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9" name="Group 4"/>
          <p:cNvGrpSpPr/>
          <p:nvPr/>
        </p:nvGrpSpPr>
        <p:grpSpPr>
          <a:xfrm>
            <a:off x="428760" y="1500120"/>
            <a:ext cx="3784320" cy="2570400"/>
            <a:chOff x="428760" y="1500120"/>
            <a:chExt cx="3784320" cy="2570400"/>
          </a:xfrm>
        </p:grpSpPr>
        <p:pic>
          <p:nvPicPr>
            <p:cNvPr id="450" name="Picture 5" descr=""/>
            <p:cNvPicPr/>
            <p:nvPr/>
          </p:nvPicPr>
          <p:blipFill>
            <a:blip r:embed="rId2"/>
            <a:stretch/>
          </p:blipFill>
          <p:spPr>
            <a:xfrm>
              <a:off x="428760" y="1500120"/>
              <a:ext cx="3784320" cy="257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6"/>
            <p:cNvSpPr/>
            <p:nvPr/>
          </p:nvSpPr>
          <p:spPr>
            <a:xfrm>
              <a:off x="428760" y="1500120"/>
              <a:ext cx="3784320" cy="257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2" name="Picture 7" descr=""/>
          <p:cNvPicPr/>
          <p:nvPr/>
        </p:nvPicPr>
        <p:blipFill>
          <a:blip r:embed="rId3"/>
          <a:stretch/>
        </p:blipFill>
        <p:spPr>
          <a:xfrm>
            <a:off x="4572000" y="1500120"/>
            <a:ext cx="4286160" cy="2500560"/>
          </a:xfrm>
          <a:prstGeom prst="rect">
            <a:avLst/>
          </a:prstGeom>
          <a:ln w="0">
            <a:noFill/>
          </a:ln>
        </p:spPr>
      </p:pic>
      <p:sp>
        <p:nvSpPr>
          <p:cNvPr id="453" name="Rectangle 8"/>
          <p:cNvSpPr/>
          <p:nvPr/>
        </p:nvSpPr>
        <p:spPr>
          <a:xfrm>
            <a:off x="285840" y="4286160"/>
            <a:ext cx="400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pacidad Carga: 27000kg - 101m3 - Pallets piso: 30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Interno</a:t>
            </a: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: 15.25m - Ancho Interno: 2.45m 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Altura Interna: 2.6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9"/>
          <p:cNvSpPr/>
          <p:nvPr/>
        </p:nvSpPr>
        <p:spPr>
          <a:xfrm>
            <a:off x="5715000" y="4286160"/>
            <a:ext cx="2857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pacidad Carga: 28000kg - 91m3 - Pallets piso: 28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Interno: 14.30m - Ancho Interno: 2.45m - Altura Interna: 2.6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428760" y="1143000"/>
            <a:ext cx="825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Lucida Sans Unicode"/>
              </a:rPr>
              <a:t>Es el medio por el cual se transporta las diferentes clases de cargas y/o mercanc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odo Aér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odo Marítim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odo Terrest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odo Fluv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Modo Ole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Group 2"/>
          <p:cNvGrpSpPr/>
          <p:nvPr/>
        </p:nvGrpSpPr>
        <p:grpSpPr>
          <a:xfrm>
            <a:off x="195120" y="66600"/>
            <a:ext cx="8496360" cy="1150920"/>
            <a:chOff x="195120" y="66600"/>
            <a:chExt cx="8496360" cy="1150920"/>
          </a:xfrm>
        </p:grpSpPr>
        <p:pic>
          <p:nvPicPr>
            <p:cNvPr id="375" name="Picture 3" descr=""/>
            <p:cNvPicPr/>
            <p:nvPr/>
          </p:nvPicPr>
          <p:blipFill>
            <a:blip r:embed="rId1"/>
            <a:stretch/>
          </p:blipFill>
          <p:spPr>
            <a:xfrm>
              <a:off x="195120" y="66600"/>
              <a:ext cx="849636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4"/>
            <p:cNvSpPr/>
            <p:nvPr/>
          </p:nvSpPr>
          <p:spPr>
            <a:xfrm>
              <a:off x="195120" y="66600"/>
              <a:ext cx="849636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7" name="Picture 5" descr=""/>
          <p:cNvPicPr/>
          <p:nvPr/>
        </p:nvPicPr>
        <p:blipFill>
          <a:blip r:embed="rId2"/>
          <a:stretch/>
        </p:blipFill>
        <p:spPr>
          <a:xfrm>
            <a:off x="4143240" y="3357720"/>
            <a:ext cx="952560" cy="742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"/>
          <p:cNvPicPr/>
          <p:nvPr/>
        </p:nvPicPr>
        <p:blipFill>
          <a:blip r:embed="rId3"/>
          <a:stretch/>
        </p:blipFill>
        <p:spPr>
          <a:xfrm>
            <a:off x="5072040" y="37148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"/>
          <p:cNvPicPr/>
          <p:nvPr/>
        </p:nvPicPr>
        <p:blipFill>
          <a:blip r:embed="rId4"/>
          <a:stretch/>
        </p:blipFill>
        <p:spPr>
          <a:xfrm>
            <a:off x="6000840" y="41432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5"/>
          <a:stretch/>
        </p:blipFill>
        <p:spPr>
          <a:xfrm>
            <a:off x="3214800" y="30002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9" descr=""/>
          <p:cNvPicPr/>
          <p:nvPr/>
        </p:nvPicPr>
        <p:blipFill>
          <a:blip r:embed="rId6"/>
          <a:stretch/>
        </p:blipFill>
        <p:spPr>
          <a:xfrm>
            <a:off x="6929280" y="4572000"/>
            <a:ext cx="95256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56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4"/>
          <p:cNvGrpSpPr/>
          <p:nvPr/>
        </p:nvGrpSpPr>
        <p:grpSpPr>
          <a:xfrm>
            <a:off x="857160" y="1285920"/>
            <a:ext cx="7642440" cy="3057480"/>
            <a:chOff x="857160" y="1285920"/>
            <a:chExt cx="7642440" cy="3057480"/>
          </a:xfrm>
        </p:grpSpPr>
        <p:pic>
          <p:nvPicPr>
            <p:cNvPr id="459" name="Picture 5" descr=""/>
            <p:cNvPicPr/>
            <p:nvPr/>
          </p:nvPicPr>
          <p:blipFill>
            <a:blip r:embed="rId2"/>
            <a:stretch/>
          </p:blipFill>
          <p:spPr>
            <a:xfrm>
              <a:off x="857160" y="1285920"/>
              <a:ext cx="7642440" cy="30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6"/>
            <p:cNvSpPr/>
            <p:nvPr/>
          </p:nvSpPr>
          <p:spPr>
            <a:xfrm>
              <a:off x="857160" y="1285920"/>
              <a:ext cx="7642440" cy="305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Rectangle 7"/>
          <p:cNvSpPr/>
          <p:nvPr/>
        </p:nvSpPr>
        <p:spPr>
          <a:xfrm flipV="1" rot="10800000">
            <a:off x="928440" y="4449240"/>
            <a:ext cx="71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pacidad Carga: 16000kgs/30000kgs - Tara: 4.63/7.7kg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: 10.67/13.5m - Ancho : 2.6m - Altura : 1.3/1.43m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63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4"/>
          <p:cNvGrpSpPr/>
          <p:nvPr/>
        </p:nvGrpSpPr>
        <p:grpSpPr>
          <a:xfrm>
            <a:off x="285840" y="1428840"/>
            <a:ext cx="8642160" cy="3141720"/>
            <a:chOff x="285840" y="1428840"/>
            <a:chExt cx="8642160" cy="3141720"/>
          </a:xfrm>
        </p:grpSpPr>
        <p:pic>
          <p:nvPicPr>
            <p:cNvPr id="466" name="Picture 5" descr=""/>
            <p:cNvPicPr/>
            <p:nvPr/>
          </p:nvPicPr>
          <p:blipFill>
            <a:blip r:embed="rId2"/>
            <a:stretch/>
          </p:blipFill>
          <p:spPr>
            <a:xfrm>
              <a:off x="285840" y="1428840"/>
              <a:ext cx="8642160" cy="314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7" name="Text Box 6"/>
            <p:cNvSpPr/>
            <p:nvPr/>
          </p:nvSpPr>
          <p:spPr>
            <a:xfrm>
              <a:off x="285840" y="1428840"/>
              <a:ext cx="8642160" cy="31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Rectangle 7"/>
          <p:cNvSpPr/>
          <p:nvPr/>
        </p:nvSpPr>
        <p:spPr>
          <a:xfrm flipV="1" rot="10800000">
            <a:off x="1501560" y="4810680"/>
            <a:ext cx="65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pacidad Carga: 32.000kgs - Modelo para Contenedor 20"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: 8.27m - Ancho : 2.50m - Altura : 1.44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70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Group 4"/>
          <p:cNvGrpSpPr/>
          <p:nvPr/>
        </p:nvGrpSpPr>
        <p:grpSpPr>
          <a:xfrm>
            <a:off x="928800" y="1714680"/>
            <a:ext cx="7642080" cy="2809800"/>
            <a:chOff x="928800" y="1714680"/>
            <a:chExt cx="7642080" cy="2809800"/>
          </a:xfrm>
        </p:grpSpPr>
        <p:pic>
          <p:nvPicPr>
            <p:cNvPr id="473" name="Picture 5" descr=""/>
            <p:cNvPicPr/>
            <p:nvPr/>
          </p:nvPicPr>
          <p:blipFill>
            <a:blip r:embed="rId2"/>
            <a:stretch/>
          </p:blipFill>
          <p:spPr>
            <a:xfrm>
              <a:off x="928800" y="1714680"/>
              <a:ext cx="76420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Text Box 6"/>
            <p:cNvSpPr/>
            <p:nvPr/>
          </p:nvSpPr>
          <p:spPr>
            <a:xfrm>
              <a:off x="928800" y="1714680"/>
              <a:ext cx="7642080" cy="28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Rectangle 7"/>
          <p:cNvSpPr/>
          <p:nvPr/>
        </p:nvSpPr>
        <p:spPr>
          <a:xfrm>
            <a:off x="1000080" y="4813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Volumen: 33mt3 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: 12.5m - Ancho : 2.6m - Altura : 3.9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77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Group 4"/>
          <p:cNvGrpSpPr/>
          <p:nvPr/>
        </p:nvGrpSpPr>
        <p:grpSpPr>
          <a:xfrm>
            <a:off x="214200" y="1500120"/>
            <a:ext cx="8713800" cy="2943360"/>
            <a:chOff x="214200" y="1500120"/>
            <a:chExt cx="8713800" cy="2943360"/>
          </a:xfrm>
        </p:grpSpPr>
        <p:pic>
          <p:nvPicPr>
            <p:cNvPr id="480" name="Picture 5" descr=""/>
            <p:cNvPicPr/>
            <p:nvPr/>
          </p:nvPicPr>
          <p:blipFill>
            <a:blip r:embed="rId2"/>
            <a:stretch/>
          </p:blipFill>
          <p:spPr>
            <a:xfrm>
              <a:off x="214200" y="1500120"/>
              <a:ext cx="8713800" cy="294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Text Box 6"/>
            <p:cNvSpPr/>
            <p:nvPr/>
          </p:nvSpPr>
          <p:spPr>
            <a:xfrm>
              <a:off x="214200" y="1500120"/>
              <a:ext cx="8713800" cy="29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2" name="Rectangle 7"/>
          <p:cNvSpPr/>
          <p:nvPr/>
        </p:nvSpPr>
        <p:spPr>
          <a:xfrm>
            <a:off x="1071720" y="4813200"/>
            <a:ext cx="72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rga: 33.000kgs - Tara: 9.400kg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 : 14.8m - Ancho : 2.6m - Altura : 4.1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Contenedore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Refrigerad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Genera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Gran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Cisterna - Tanqu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4" name="Group 2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85" name="Picture 3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6" name="Text Box 4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488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0" name="Group 4"/>
          <p:cNvGrpSpPr/>
          <p:nvPr/>
        </p:nvGrpSpPr>
        <p:grpSpPr>
          <a:xfrm>
            <a:off x="571680" y="1643040"/>
            <a:ext cx="6499080" cy="1355760"/>
            <a:chOff x="571680" y="1643040"/>
            <a:chExt cx="6499080" cy="1355760"/>
          </a:xfrm>
        </p:grpSpPr>
        <p:pic>
          <p:nvPicPr>
            <p:cNvPr id="491" name="Picture 5" descr=""/>
            <p:cNvPicPr/>
            <p:nvPr/>
          </p:nvPicPr>
          <p:blipFill>
            <a:blip r:embed="rId2"/>
            <a:stretch/>
          </p:blipFill>
          <p:spPr>
            <a:xfrm>
              <a:off x="571680" y="1643040"/>
              <a:ext cx="6499080" cy="13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Text Box 6"/>
            <p:cNvSpPr/>
            <p:nvPr/>
          </p:nvSpPr>
          <p:spPr>
            <a:xfrm>
              <a:off x="571680" y="1643040"/>
              <a:ext cx="6499080" cy="13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Rectangle 7"/>
          <p:cNvSpPr/>
          <p:nvPr/>
        </p:nvSpPr>
        <p:spPr>
          <a:xfrm>
            <a:off x="571680" y="307188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una sola cubierta y bahía de carga que incluye arreglos especiales con divisiones de celdas para el transporte de contene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8"/>
          <p:cNvSpPr/>
          <p:nvPr/>
        </p:nvSpPr>
        <p:spPr>
          <a:xfrm>
            <a:off x="785880" y="4071960"/>
            <a:ext cx="814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ubiertas sin apertura o escotillas superiore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 adicional de carga para el traslado de carga seca o líquida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Puntos específicos para contenedores eléctricos de refrigeración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 de carga totalmente refrigerada para el transporte de perecede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Group 1"/>
          <p:cNvGrpSpPr/>
          <p:nvPr/>
        </p:nvGrpSpPr>
        <p:grpSpPr>
          <a:xfrm>
            <a:off x="225360" y="268200"/>
            <a:ext cx="8466120" cy="1157400"/>
            <a:chOff x="225360" y="268200"/>
            <a:chExt cx="8466120" cy="1157400"/>
          </a:xfrm>
        </p:grpSpPr>
        <p:pic>
          <p:nvPicPr>
            <p:cNvPr id="496" name="Picture 2" descr=""/>
            <p:cNvPicPr/>
            <p:nvPr/>
          </p:nvPicPr>
          <p:blipFill>
            <a:blip r:embed="rId1"/>
            <a:stretch/>
          </p:blipFill>
          <p:spPr>
            <a:xfrm>
              <a:off x="225360" y="268200"/>
              <a:ext cx="846612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Text Box 3"/>
            <p:cNvSpPr/>
            <p:nvPr/>
          </p:nvSpPr>
          <p:spPr>
            <a:xfrm>
              <a:off x="225360" y="268200"/>
              <a:ext cx="84661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98" name="Group 4"/>
          <p:cNvGrpSpPr/>
          <p:nvPr/>
        </p:nvGrpSpPr>
        <p:grpSpPr>
          <a:xfrm>
            <a:off x="130320" y="1714680"/>
            <a:ext cx="6940440" cy="1855440"/>
            <a:chOff x="130320" y="1714680"/>
            <a:chExt cx="6940440" cy="1855440"/>
          </a:xfrm>
        </p:grpSpPr>
        <p:pic>
          <p:nvPicPr>
            <p:cNvPr id="499" name="Picture 5" descr=""/>
            <p:cNvPicPr/>
            <p:nvPr/>
          </p:nvPicPr>
          <p:blipFill>
            <a:blip r:embed="rId2"/>
            <a:stretch/>
          </p:blipFill>
          <p:spPr>
            <a:xfrm>
              <a:off x="130320" y="1714680"/>
              <a:ext cx="6940440" cy="18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Text Box 6"/>
            <p:cNvSpPr/>
            <p:nvPr/>
          </p:nvSpPr>
          <p:spPr>
            <a:xfrm>
              <a:off x="130320" y="1714680"/>
              <a:ext cx="6940440" cy="18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1" name="Rectangle 7"/>
          <p:cNvSpPr/>
          <p:nvPr/>
        </p:nvSpPr>
        <p:spPr>
          <a:xfrm>
            <a:off x="714240" y="3643200"/>
            <a:ext cx="614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cubiertas y bahías de carga que incluyen arreglos especiales para el transporte de carga de pereceder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8"/>
          <p:cNvSpPr/>
          <p:nvPr/>
        </p:nvSpPr>
        <p:spPr>
          <a:xfrm>
            <a:off x="500040" y="485784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Elevadores especiales a los lados para la carga de vehículos de carret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3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04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4"/>
          <p:cNvGrpSpPr/>
          <p:nvPr/>
        </p:nvGrpSpPr>
        <p:grpSpPr>
          <a:xfrm>
            <a:off x="130320" y="1285920"/>
            <a:ext cx="7654680" cy="1427040"/>
            <a:chOff x="130320" y="1285920"/>
            <a:chExt cx="7654680" cy="1427040"/>
          </a:xfrm>
        </p:grpSpPr>
        <p:pic>
          <p:nvPicPr>
            <p:cNvPr id="507" name="Picture 5" descr=""/>
            <p:cNvPicPr/>
            <p:nvPr/>
          </p:nvPicPr>
          <p:blipFill>
            <a:blip r:embed="rId2"/>
            <a:stretch/>
          </p:blipFill>
          <p:spPr>
            <a:xfrm>
              <a:off x="130320" y="1285920"/>
              <a:ext cx="76546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 Box 6"/>
            <p:cNvSpPr/>
            <p:nvPr/>
          </p:nvSpPr>
          <p:spPr>
            <a:xfrm>
              <a:off x="130320" y="1285920"/>
              <a:ext cx="765468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Rectangle 7"/>
          <p:cNvSpPr/>
          <p:nvPr/>
        </p:nvSpPr>
        <p:spPr>
          <a:xfrm>
            <a:off x="214200" y="271476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una sola bahía de carga que incluye un compartimiento o varios entre cubiertas, específicamente para varios tipos de carga sec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214200" y="3357720"/>
            <a:ext cx="835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 única de doble recubrimiento exterior y amplias aperturas para la carga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Refuerzos para el traslado de carga pesada (incluido hierro / aluminio)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s de carga equipadas con arreglos de seguridad para contenedore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Tanques especialmente diseñados para carga de mercancia líquida.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Espacio refrigerado para la carga de pereceder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a adicional y espacios de carga para pall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12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4" name="Group 4"/>
          <p:cNvGrpSpPr/>
          <p:nvPr/>
        </p:nvGrpSpPr>
        <p:grpSpPr>
          <a:xfrm>
            <a:off x="287280" y="1285920"/>
            <a:ext cx="5168880" cy="1427040"/>
            <a:chOff x="287280" y="1285920"/>
            <a:chExt cx="5168880" cy="1427040"/>
          </a:xfrm>
        </p:grpSpPr>
        <p:pic>
          <p:nvPicPr>
            <p:cNvPr id="515" name="Picture 5" descr=""/>
            <p:cNvPicPr/>
            <p:nvPr/>
          </p:nvPicPr>
          <p:blipFill>
            <a:blip r:embed="rId2"/>
            <a:stretch/>
          </p:blipFill>
          <p:spPr>
            <a:xfrm>
              <a:off x="287280" y="1285920"/>
              <a:ext cx="5168880" cy="14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 Box 6"/>
            <p:cNvSpPr/>
            <p:nvPr/>
          </p:nvSpPr>
          <p:spPr>
            <a:xfrm>
              <a:off x="287280" y="1285920"/>
              <a:ext cx="5168880" cy="14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7" name="Rectangle 7"/>
          <p:cNvSpPr/>
          <p:nvPr/>
        </p:nvSpPr>
        <p:spPr>
          <a:xfrm>
            <a:off x="214200" y="2428920"/>
            <a:ext cx="89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una sola bahía de carga, que incluye arreglos para tanques y bahías diseñadas específicamente para el transporte de carga suelta de varios tipos de naturaleza homogéne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8"/>
          <p:cNvSpPr/>
          <p:nvPr/>
        </p:nvSpPr>
        <p:spPr>
          <a:xfrm>
            <a:off x="214200" y="3571920"/>
            <a:ext cx="864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s de carga a los lad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Refuerzos para carga pesada (incluído hierro / aluminio)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Bahías equipadas para el transporte de contenedores y vehícul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ubierta superior provista con anclaje para el transporte de bult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Restricciones de diseño y servicio relativo a operaciones en los Gande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 Lagos de Norteamér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20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Group 4"/>
          <p:cNvGrpSpPr/>
          <p:nvPr/>
        </p:nvGrpSpPr>
        <p:grpSpPr>
          <a:xfrm>
            <a:off x="500040" y="1428840"/>
            <a:ext cx="5481720" cy="1498680"/>
            <a:chOff x="500040" y="1428840"/>
            <a:chExt cx="5481720" cy="1498680"/>
          </a:xfrm>
        </p:grpSpPr>
        <p:pic>
          <p:nvPicPr>
            <p:cNvPr id="523" name="Picture 5" descr=""/>
            <p:cNvPicPr/>
            <p:nvPr/>
          </p:nvPicPr>
          <p:blipFill>
            <a:blip r:embed="rId2"/>
            <a:stretch/>
          </p:blipFill>
          <p:spPr>
            <a:xfrm>
              <a:off x="500040" y="1428840"/>
              <a:ext cx="54817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Text Box 6"/>
            <p:cNvSpPr/>
            <p:nvPr/>
          </p:nvSpPr>
          <p:spPr>
            <a:xfrm>
              <a:off x="500040" y="1428840"/>
              <a:ext cx="5481720" cy="14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Rectangle 7"/>
          <p:cNvSpPr/>
          <p:nvPr/>
        </p:nvSpPr>
        <p:spPr>
          <a:xfrm>
            <a:off x="214200" y="269064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una sola bahía de carga que incluye un arreglo para uno o más tanques independientes diseñados específicamente para el translado de mercancía en forma líqu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8"/>
          <p:cNvSpPr/>
          <p:nvPr/>
        </p:nvSpPr>
        <p:spPr>
          <a:xfrm>
            <a:off x="285840" y="3786120"/>
            <a:ext cx="8501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uero de combustible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uero de químic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uero de combustibles / químic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uero de gas líquido (usualmente tanques independientes)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rguero de gas líquido / químic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Otros (carguero de agua, de vino, jugos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457200" y="1285920"/>
            <a:ext cx="822960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Lucida Sans Unicode"/>
              </a:rPr>
              <a:t>Es el bien por el cual se realiza el transporte de carga y/o mercancí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Avion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Buqu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Camiones, Tren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Planchones, Barcazas, Ferr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Tubería</a:t>
            </a:r>
            <a:r>
              <a:rPr b="0" lang="es-CO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3" name="Group 2"/>
          <p:cNvGrpSpPr/>
          <p:nvPr/>
        </p:nvGrpSpPr>
        <p:grpSpPr>
          <a:xfrm>
            <a:off x="219240" y="66600"/>
            <a:ext cx="8472240" cy="1150920"/>
            <a:chOff x="219240" y="66600"/>
            <a:chExt cx="8472240" cy="1150920"/>
          </a:xfrm>
        </p:grpSpPr>
        <p:pic>
          <p:nvPicPr>
            <p:cNvPr id="384" name="Picture 3" descr=""/>
            <p:cNvPicPr/>
            <p:nvPr/>
          </p:nvPicPr>
          <p:blipFill>
            <a:blip r:embed="rId1"/>
            <a:stretch/>
          </p:blipFill>
          <p:spPr>
            <a:xfrm>
              <a:off x="219240" y="66600"/>
              <a:ext cx="847224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Text Box 4"/>
            <p:cNvSpPr/>
            <p:nvPr/>
          </p:nvSpPr>
          <p:spPr>
            <a:xfrm>
              <a:off x="219240" y="66600"/>
              <a:ext cx="8472240" cy="11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4214880" y="371484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6" descr=""/>
          <p:cNvPicPr/>
          <p:nvPr/>
        </p:nvPicPr>
        <p:blipFill>
          <a:blip r:embed="rId3"/>
          <a:stretch/>
        </p:blipFill>
        <p:spPr>
          <a:xfrm>
            <a:off x="5143680" y="4143240"/>
            <a:ext cx="952200" cy="743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7" descr=""/>
          <p:cNvPicPr/>
          <p:nvPr/>
        </p:nvPicPr>
        <p:blipFill>
          <a:blip r:embed="rId4"/>
          <a:stretch/>
        </p:blipFill>
        <p:spPr>
          <a:xfrm>
            <a:off x="6072120" y="457200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"/>
          <p:cNvPicPr/>
          <p:nvPr/>
        </p:nvPicPr>
        <p:blipFill>
          <a:blip r:embed="rId5"/>
          <a:stretch/>
        </p:blipFill>
        <p:spPr>
          <a:xfrm>
            <a:off x="3286080" y="3286080"/>
            <a:ext cx="952560" cy="7430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9" descr=""/>
          <p:cNvPicPr/>
          <p:nvPr/>
        </p:nvPicPr>
        <p:blipFill>
          <a:blip r:embed="rId6"/>
          <a:stretch/>
        </p:blipFill>
        <p:spPr>
          <a:xfrm>
            <a:off x="7000920" y="4929120"/>
            <a:ext cx="952560" cy="7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28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0" name="Group 4"/>
          <p:cNvGrpSpPr/>
          <p:nvPr/>
        </p:nvGrpSpPr>
        <p:grpSpPr>
          <a:xfrm>
            <a:off x="0" y="1071720"/>
            <a:ext cx="8642520" cy="1141200"/>
            <a:chOff x="0" y="1071720"/>
            <a:chExt cx="8642520" cy="1141200"/>
          </a:xfrm>
        </p:grpSpPr>
        <p:pic>
          <p:nvPicPr>
            <p:cNvPr id="531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071720"/>
              <a:ext cx="8642520" cy="11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Text Box 6"/>
            <p:cNvSpPr/>
            <p:nvPr/>
          </p:nvSpPr>
          <p:spPr>
            <a:xfrm>
              <a:off x="0" y="1071720"/>
              <a:ext cx="8642520" cy="11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Rectangle 7"/>
          <p:cNvSpPr/>
          <p:nvPr/>
        </p:nvSpPr>
        <p:spPr>
          <a:xfrm>
            <a:off x="214200" y="2143080"/>
            <a:ext cx="871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cubiertas específicas para el traslado y transporte de vehículos ferroviarios y vehículos rodoviarios, y para mercancía que puede ser cargada y descargada por vehículos con rued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0" y="30718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racterísticas adap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ubiertas con rieles fijos para la carga de vehículos ferrroviarios exclusivamente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 o simultáneamente con vehículos rodoviari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Mercancia adicional para ser descendida o ascendida desde la bahía de carga por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 las compuertas superiores o alternativamente, por equipo especializado de muelle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Cabinas para los conductores de vehículo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Maquinaria para la carga de pallets por los laterales de la nave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Rampas internas o elevadores para el movimiento de la carga entre cubiertas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- Áreas o cubiertas equipadas con establos para el transporte de carga viva</a:t>
            </a:r>
            <a:br>
              <a:rPr sz="1800"/>
            </a:b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 (estos establos pueden ser o no removido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1"/>
          <p:cNvGrpSpPr/>
          <p:nvPr/>
        </p:nvGrpSpPr>
        <p:grpSpPr>
          <a:xfrm>
            <a:off x="225360" y="268200"/>
            <a:ext cx="8466120" cy="1157400"/>
            <a:chOff x="225360" y="268200"/>
            <a:chExt cx="8466120" cy="1157400"/>
          </a:xfrm>
        </p:grpSpPr>
        <p:pic>
          <p:nvPicPr>
            <p:cNvPr id="536" name="Picture 2" descr=""/>
            <p:cNvPicPr/>
            <p:nvPr/>
          </p:nvPicPr>
          <p:blipFill>
            <a:blip r:embed="rId1"/>
            <a:stretch/>
          </p:blipFill>
          <p:spPr>
            <a:xfrm>
              <a:off x="225360" y="268200"/>
              <a:ext cx="846612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3"/>
            <p:cNvSpPr/>
            <p:nvPr/>
          </p:nvSpPr>
          <p:spPr>
            <a:xfrm>
              <a:off x="225360" y="268200"/>
              <a:ext cx="846612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38" name="Group 4"/>
          <p:cNvGrpSpPr/>
          <p:nvPr/>
        </p:nvGrpSpPr>
        <p:grpSpPr>
          <a:xfrm>
            <a:off x="714240" y="1214280"/>
            <a:ext cx="7499520" cy="2284560"/>
            <a:chOff x="714240" y="1214280"/>
            <a:chExt cx="7499520" cy="2284560"/>
          </a:xfrm>
        </p:grpSpPr>
        <p:pic>
          <p:nvPicPr>
            <p:cNvPr id="539" name="Picture 5" descr=""/>
            <p:cNvPicPr/>
            <p:nvPr/>
          </p:nvPicPr>
          <p:blipFill>
            <a:blip r:embed="rId2"/>
            <a:stretch/>
          </p:blipFill>
          <p:spPr>
            <a:xfrm>
              <a:off x="714240" y="1214280"/>
              <a:ext cx="7499520" cy="228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Text Box 6"/>
            <p:cNvSpPr/>
            <p:nvPr/>
          </p:nvSpPr>
          <p:spPr>
            <a:xfrm>
              <a:off x="714240" y="1214280"/>
              <a:ext cx="7499520" cy="22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1" name="Rectangle 7"/>
          <p:cNvSpPr/>
          <p:nvPr/>
        </p:nvSpPr>
        <p:spPr>
          <a:xfrm>
            <a:off x="785880" y="321480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Diseñado con cubiertas y una superestructura específica para el traslado y la carga de vehículos carreteros nue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1"/>
          <p:cNvSpPr/>
          <p:nvPr/>
        </p:nvSpPr>
        <p:spPr>
          <a:xfrm>
            <a:off x="457200" y="1571760"/>
            <a:ext cx="822960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Lucida Sans Unicode"/>
              </a:rPr>
              <a:t>VEHICULOS DE EMERG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ROS DE BOMB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PATRUL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MBULA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SC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Lucida Sans Unicode"/>
              </a:rPr>
              <a:t>SISTEMAS DE 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MARAS DE VIGILA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SORES CONTRA INCEND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ENSORES DE MOVIMIEN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ISTEMAS DE CONTROL DE INGRESO Y SALIDA DE PERS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ISTEMAS DE CONTROL DE INGRESO Y SALIDA DE MERCANC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TINT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3" name="Group 2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544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5" name="Text Box 4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1"/>
          <p:cNvSpPr/>
          <p:nvPr/>
        </p:nvSpPr>
        <p:spPr>
          <a:xfrm>
            <a:off x="457200" y="1428840"/>
            <a:ext cx="8229600" cy="45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Carro de Bomber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Vehícul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Tanque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Escal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Patrull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Vehículo 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7" name="Group 2"/>
          <p:cNvGrpSpPr/>
          <p:nvPr/>
        </p:nvGrpSpPr>
        <p:grpSpPr>
          <a:xfrm>
            <a:off x="171360" y="255600"/>
            <a:ext cx="8520120" cy="1035000"/>
            <a:chOff x="171360" y="255600"/>
            <a:chExt cx="8520120" cy="1035000"/>
          </a:xfrm>
        </p:grpSpPr>
        <p:pic>
          <p:nvPicPr>
            <p:cNvPr id="548" name="Picture 3" descr=""/>
            <p:cNvPicPr/>
            <p:nvPr/>
          </p:nvPicPr>
          <p:blipFill>
            <a:blip r:embed="rId1"/>
            <a:stretch/>
          </p:blipFill>
          <p:spPr>
            <a:xfrm>
              <a:off x="171360" y="255600"/>
              <a:ext cx="852012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Text Box 4"/>
            <p:cNvSpPr/>
            <p:nvPr/>
          </p:nvSpPr>
          <p:spPr>
            <a:xfrm>
              <a:off x="171360" y="255600"/>
              <a:ext cx="8520120" cy="10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0" name="Picture 5" descr=""/>
          <p:cNvPicPr/>
          <p:nvPr/>
        </p:nvPicPr>
        <p:blipFill>
          <a:blip r:embed="rId2"/>
          <a:stretch/>
        </p:blipFill>
        <p:spPr>
          <a:xfrm>
            <a:off x="2928960" y="1857240"/>
            <a:ext cx="3071880" cy="14288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6" descr=""/>
          <p:cNvPicPr/>
          <p:nvPr/>
        </p:nvPicPr>
        <p:blipFill>
          <a:blip r:embed="rId3"/>
          <a:stretch/>
        </p:blipFill>
        <p:spPr>
          <a:xfrm>
            <a:off x="3325680" y="4214880"/>
            <a:ext cx="26035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1"/>
          <p:cNvSpPr/>
          <p:nvPr/>
        </p:nvSpPr>
        <p:spPr>
          <a:xfrm>
            <a:off x="457200" y="500040"/>
            <a:ext cx="8229600" cy="64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Ambulancia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Vehículo 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Asistencia Medicaliza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Rescate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Vehículo Bivial de Auxilio 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Resc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2928960" cy="22147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"/>
          <p:cNvPicPr/>
          <p:nvPr/>
        </p:nvPicPr>
        <p:blipFill>
          <a:blip r:embed="rId2"/>
          <a:stretch/>
        </p:blipFill>
        <p:spPr>
          <a:xfrm>
            <a:off x="4500720" y="1000080"/>
            <a:ext cx="2643120" cy="19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Cámaras de Seguridad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2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57" name="Picture 3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4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5" descr=""/>
          <p:cNvPicPr/>
          <p:nvPr/>
        </p:nvPicPr>
        <p:blipFill>
          <a:blip r:embed="rId2"/>
          <a:stretch/>
        </p:blipFill>
        <p:spPr>
          <a:xfrm>
            <a:off x="1571760" y="2214720"/>
            <a:ext cx="5500440" cy="36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1"/>
          <p:cNvSpPr/>
          <p:nvPr/>
        </p:nvSpPr>
        <p:spPr>
          <a:xfrm>
            <a:off x="457200" y="642960"/>
            <a:ext cx="822960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Sensores Contra Incendio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1500120" y="1500120"/>
            <a:ext cx="571500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1"/>
          <p:cNvSpPr/>
          <p:nvPr/>
        </p:nvSpPr>
        <p:spPr>
          <a:xfrm>
            <a:off x="457200" y="642960"/>
            <a:ext cx="8229600" cy="53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Sensores de Movimiento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1928880" y="1357200"/>
            <a:ext cx="4857840" cy="43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1"/>
          <p:cNvSpPr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istemas de Control de Ingreso y Salida Perso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5" name="Picture 2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"/>
          <p:cNvPicPr/>
          <p:nvPr/>
        </p:nvPicPr>
        <p:blipFill>
          <a:blip r:embed="rId2"/>
          <a:stretch/>
        </p:blipFill>
        <p:spPr>
          <a:xfrm>
            <a:off x="4786200" y="3786120"/>
            <a:ext cx="2997360" cy="20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1"/>
          <p:cNvSpPr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istemas de control de Ingreso y salida de Mercancí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2" descr=""/>
          <p:cNvPicPr/>
          <p:nvPr/>
        </p:nvPicPr>
        <p:blipFill>
          <a:blip r:embed="rId1"/>
          <a:stretch/>
        </p:blipFill>
        <p:spPr>
          <a:xfrm>
            <a:off x="642960" y="1428840"/>
            <a:ext cx="3714840" cy="435744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4714920" y="1357200"/>
            <a:ext cx="3857760" cy="45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457200" y="1481040"/>
            <a:ext cx="8229600" cy="61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Lucida Sans Unicode"/>
              </a:rPr>
              <a:t>Existe una gran diversidad de productos susceptibles a ser transportados y comercializados; para garantizar un manejo adecuado,  la carga ha tenido que clasificarse 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Carga 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Carga a Gr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Carga Peligro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28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1" lang="es-CO" sz="3200" spc="-1" strike="noStrike">
                <a:solidFill>
                  <a:srgbClr val="000000"/>
                </a:solidFill>
                <a:latin typeface="Lucida Sans Unicode"/>
              </a:rPr>
              <a:t>Otros tipos de Carg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2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393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Text Box 4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1"/>
          <p:cNvGrpSpPr/>
          <p:nvPr/>
        </p:nvGrpSpPr>
        <p:grpSpPr>
          <a:xfrm>
            <a:off x="195120" y="268200"/>
            <a:ext cx="8496360" cy="1157400"/>
            <a:chOff x="195120" y="268200"/>
            <a:chExt cx="8496360" cy="1157400"/>
          </a:xfrm>
        </p:grpSpPr>
        <p:pic>
          <p:nvPicPr>
            <p:cNvPr id="571" name="Picture 2" descr=""/>
            <p:cNvPicPr/>
            <p:nvPr/>
          </p:nvPicPr>
          <p:blipFill>
            <a:blip r:embed="rId1"/>
            <a:stretch/>
          </p:blipFill>
          <p:spPr>
            <a:xfrm>
              <a:off x="195120" y="268200"/>
              <a:ext cx="84963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2" name="Text Box 3"/>
            <p:cNvSpPr/>
            <p:nvPr/>
          </p:nvSpPr>
          <p:spPr>
            <a:xfrm>
              <a:off x="195120" y="268200"/>
              <a:ext cx="84963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3" name="Group 4"/>
          <p:cNvGrpSpPr/>
          <p:nvPr/>
        </p:nvGrpSpPr>
        <p:grpSpPr>
          <a:xfrm>
            <a:off x="642960" y="1285920"/>
            <a:ext cx="7427880" cy="4738680"/>
            <a:chOff x="642960" y="1285920"/>
            <a:chExt cx="7427880" cy="4738680"/>
          </a:xfrm>
        </p:grpSpPr>
        <p:pic>
          <p:nvPicPr>
            <p:cNvPr id="574" name="Picture 5" descr=""/>
            <p:cNvPicPr/>
            <p:nvPr/>
          </p:nvPicPr>
          <p:blipFill>
            <a:blip r:embed="rId2"/>
            <a:stretch/>
          </p:blipFill>
          <p:spPr>
            <a:xfrm>
              <a:off x="642960" y="1285920"/>
              <a:ext cx="7427880" cy="473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6"/>
            <p:cNvSpPr/>
            <p:nvPr/>
          </p:nvSpPr>
          <p:spPr>
            <a:xfrm>
              <a:off x="642960" y="1285920"/>
              <a:ext cx="7427880" cy="473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1"/>
          <p:cNvSpPr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tintores Portát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nsporte Manu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nsporte Sobre Rue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7" name="Picture 2" descr=""/>
          <p:cNvPicPr/>
          <p:nvPr/>
        </p:nvPicPr>
        <p:blipFill>
          <a:blip r:embed="rId1"/>
          <a:stretch/>
        </p:blipFill>
        <p:spPr>
          <a:xfrm>
            <a:off x="2500200" y="128592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3" descr=""/>
          <p:cNvPicPr/>
          <p:nvPr/>
        </p:nvPicPr>
        <p:blipFill>
          <a:blip r:embed="rId2"/>
          <a:stretch/>
        </p:blipFill>
        <p:spPr>
          <a:xfrm>
            <a:off x="5643720" y="1214280"/>
            <a:ext cx="2000160" cy="1857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"/>
          <p:cNvPicPr/>
          <p:nvPr/>
        </p:nvPicPr>
        <p:blipFill>
          <a:blip r:embed="rId3"/>
          <a:stretch/>
        </p:blipFill>
        <p:spPr>
          <a:xfrm>
            <a:off x="5643720" y="3857760"/>
            <a:ext cx="1827000" cy="2214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5" descr=""/>
          <p:cNvPicPr/>
          <p:nvPr/>
        </p:nvPicPr>
        <p:blipFill>
          <a:blip r:embed="rId4"/>
          <a:stretch/>
        </p:blipFill>
        <p:spPr>
          <a:xfrm>
            <a:off x="2143080" y="3857760"/>
            <a:ext cx="208296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1"/>
          <p:cNvSpPr/>
          <p:nvPr/>
        </p:nvSpPr>
        <p:spPr>
          <a:xfrm>
            <a:off x="457200" y="571680"/>
            <a:ext cx="822960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tintores Portáti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nsporte Manu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Transporte Sobre Rueda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2" name="Picture 2" descr=""/>
          <p:cNvPicPr/>
          <p:nvPr/>
        </p:nvPicPr>
        <p:blipFill>
          <a:blip r:embed="rId1"/>
          <a:stretch/>
        </p:blipFill>
        <p:spPr>
          <a:xfrm>
            <a:off x="2500200" y="1285920"/>
            <a:ext cx="2071800" cy="17859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5643720" y="1214280"/>
            <a:ext cx="2000160" cy="1857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" descr=""/>
          <p:cNvPicPr/>
          <p:nvPr/>
        </p:nvPicPr>
        <p:blipFill>
          <a:blip r:embed="rId3"/>
          <a:stretch/>
        </p:blipFill>
        <p:spPr>
          <a:xfrm>
            <a:off x="5643720" y="3857760"/>
            <a:ext cx="1827000" cy="22143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5" descr=""/>
          <p:cNvPicPr/>
          <p:nvPr/>
        </p:nvPicPr>
        <p:blipFill>
          <a:blip r:embed="rId4"/>
          <a:stretch/>
        </p:blipFill>
        <p:spPr>
          <a:xfrm>
            <a:off x="2143080" y="3857760"/>
            <a:ext cx="2082960" cy="219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1"/>
          <p:cNvSpPr/>
          <p:nvPr/>
        </p:nvSpPr>
        <p:spPr>
          <a:xfrm>
            <a:off x="457200" y="571680"/>
            <a:ext cx="822960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tintores Fij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cción Manua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601560" indent="-255600">
              <a:lnSpc>
                <a:spcPct val="100000"/>
              </a:lnSpc>
              <a:spcBef>
                <a:spcPts val="400"/>
              </a:spcBef>
              <a:buClr>
                <a:srgbClr val="da1f28"/>
              </a:buClr>
              <a:buFont typeface="Wingdings 3" charset="2"/>
              <a:buChar char=""/>
              <a:tabLst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cción Automáti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r>
              <a:rPr b="0" lang="es-CO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655560"/>
                <a:tab algn="l" pos="1569960"/>
                <a:tab algn="l" pos="2484360"/>
                <a:tab algn="l" pos="3398760"/>
                <a:tab algn="l" pos="4313160"/>
                <a:tab algn="l" pos="5227560"/>
                <a:tab algn="l" pos="6141960"/>
                <a:tab algn="l" pos="7056360"/>
                <a:tab algn="l" pos="7970760"/>
                <a:tab algn="l" pos="8885160"/>
                <a:tab algn="l" pos="97995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2" descr="file:///D:/Documents%20and%20Settings/EAC/Mis%20documentos/Mis%20im%C3%A1genes/imagesCA79EJPP.jpg"/>
          <p:cNvPicPr/>
          <p:nvPr/>
        </p:nvPicPr>
        <p:blipFill>
          <a:blip r:embed=""/>
          <a:stretch/>
        </p:blipFill>
        <p:spPr>
          <a:xfrm>
            <a:off x="2519280" y="1440000"/>
            <a:ext cx="2160720" cy="21603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file:///D:/Documents%20and%20Settings/EAC/Mis%20documentos/Mis%20im%C3%A1genes/imagesCAS1DMLZ.jpg"/>
          <p:cNvPicPr/>
          <p:nvPr/>
        </p:nvPicPr>
        <p:blipFill>
          <a:blip r:embed=""/>
          <a:stretch/>
        </p:blipFill>
        <p:spPr>
          <a:xfrm>
            <a:off x="3060720" y="450072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"/>
          <p:cNvPicPr/>
          <p:nvPr/>
        </p:nvPicPr>
        <p:blipFill>
          <a:blip r:embed="rId1"/>
          <a:stretch/>
        </p:blipFill>
        <p:spPr>
          <a:xfrm>
            <a:off x="5219640" y="4322880"/>
            <a:ext cx="1800360" cy="16192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5" descr="file:///D:/Documents%20and%20Settings/EAC/Mis%20documentos/Mis%20im%C3%A1genes/imagesCA54SVLF.jpg"/>
          <p:cNvPicPr/>
          <p:nvPr/>
        </p:nvPicPr>
        <p:blipFill>
          <a:blip r:embed=""/>
          <a:stretch/>
        </p:blipFill>
        <p:spPr>
          <a:xfrm>
            <a:off x="5040360" y="1440000"/>
            <a:ext cx="234000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457200" y="428760"/>
            <a:ext cx="8229600" cy="60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GA GENERAL</a:t>
            </a: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	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ga General Fraccionad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ga General Unitarizad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GA A GRANE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ranel Sólido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ranel Líquido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ARGA PELIGROS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Explosiv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Gas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íquidos inflamab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ólidos inflamabl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stancias comburentes y peróxidos orgánic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stancias tóxicas y sustancias infeccios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terial radiactivo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stancias corrosiv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Sustancias y objetos peligrosos vario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1" marL="619200" indent="-228600">
              <a:lnSpc>
                <a:spcPct val="100000"/>
              </a:lnSpc>
              <a:spcBef>
                <a:spcPts val="326"/>
              </a:spcBef>
              <a:buClr>
                <a:srgbClr val="2da2b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Otros Tipos de Carg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Automotriz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Maquinaria pesada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frigerados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228600">
              <a:lnSpc>
                <a:spcPct val="100000"/>
              </a:lnSpc>
              <a:spcBef>
                <a:spcPts val="349"/>
              </a:spcBef>
              <a:buClr>
                <a:srgbClr val="da1f28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5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Valor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En los medios de transporte encontramos los siguien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CAM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2000" spc="-1" strike="noStrike">
                <a:solidFill>
                  <a:srgbClr val="000000"/>
                </a:solidFill>
                <a:latin typeface="Lucida Sans Unicode"/>
              </a:rPr>
              <a:t>BUQU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7" name="Group 2"/>
          <p:cNvGrpSpPr/>
          <p:nvPr/>
        </p:nvGrpSpPr>
        <p:grpSpPr>
          <a:xfrm>
            <a:off x="450720" y="268200"/>
            <a:ext cx="8240760" cy="1157400"/>
            <a:chOff x="450720" y="268200"/>
            <a:chExt cx="8240760" cy="1157400"/>
          </a:xfrm>
        </p:grpSpPr>
        <p:pic>
          <p:nvPicPr>
            <p:cNvPr id="398" name="Picture 3" descr=""/>
            <p:cNvPicPr/>
            <p:nvPr/>
          </p:nvPicPr>
          <p:blipFill>
            <a:blip r:embed="rId1"/>
            <a:stretch/>
          </p:blipFill>
          <p:spPr>
            <a:xfrm>
              <a:off x="450720" y="268200"/>
              <a:ext cx="82407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4"/>
            <p:cNvSpPr/>
            <p:nvPr/>
          </p:nvSpPr>
          <p:spPr>
            <a:xfrm>
              <a:off x="450720" y="268200"/>
              <a:ext cx="8240760" cy="11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1481040"/>
            <a:ext cx="82296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Carga Seca 53' x 9'6“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odo tipo de carga, protege contra el medio ambiente, pero no necesita control de temp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externa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Largo; 48' 0" Ancho; 8' 6" Alto; 9' 6“ 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interna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Largo; 47' 6" Ancho; 8' 3" Alto; 8' 10" 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pacidad máxima de carga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34,50 - 3,490 ft</a:t>
            </a:r>
            <a:r>
              <a:rPr b="0" lang="es-CO" sz="18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 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Peso neto sin carga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56,350 l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2357280" y="2808360"/>
            <a:ext cx="310356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1481040"/>
            <a:ext cx="8229600" cy="45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Carga Seca 48' x 9'6"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odo tipo de carga, protege contra el medio ambiente, pero no necesita control de temp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externa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Largo; 53' 0" Ancho; 8' 6" Alto; 9' 6"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interna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Largo; 52' 6" Ancho; 8' 3" Alto; 8' 11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pacidad máxima de carga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3,864 ft</a:t>
            </a:r>
            <a:r>
              <a:rPr b="0" lang="es-CO" sz="18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Peso neto sin carga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57,600 l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5" name="Picture 3" descr=""/>
          <p:cNvPicPr/>
          <p:nvPr/>
        </p:nvPicPr>
        <p:blipFill>
          <a:blip r:embed="rId1"/>
          <a:stretch/>
        </p:blipFill>
        <p:spPr>
          <a:xfrm>
            <a:off x="2571840" y="2786040"/>
            <a:ext cx="2889000" cy="15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ja Refrigera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Se utiliza para todo tipo de carga que se requiere control estable de temperatur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externas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Largo; 40' 00" Ancho; 8' 00" Alto; 8' 50"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Medidas internas: 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Largo; 37' 17" Ancho; 7' 50" Alto; 7' 18"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s-CO" sz="1800" spc="-1" strike="noStrike">
                <a:solidFill>
                  <a:srgbClr val="000000"/>
                </a:solidFill>
                <a:latin typeface="Lucida Sans Unicode"/>
              </a:rPr>
              <a:t>Capacidad:</a:t>
            </a:r>
            <a:r>
              <a:rPr b="0" lang="es-CO" sz="1800" spc="-1" strike="noStrike">
                <a:solidFill>
                  <a:srgbClr val="000000"/>
                </a:solidFill>
                <a:latin typeface="Lucida Sans Unicode"/>
              </a:rPr>
              <a:t> 2,004 ft</a:t>
            </a:r>
            <a:r>
              <a:rPr b="0" lang="es-CO" sz="18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8" name="Picture 3" descr=""/>
          <p:cNvPicPr/>
          <p:nvPr/>
        </p:nvPicPr>
        <p:blipFill>
          <a:blip r:embed="rId1"/>
          <a:stretch/>
        </p:blipFill>
        <p:spPr>
          <a:xfrm>
            <a:off x="2714760" y="2808360"/>
            <a:ext cx="2746080" cy="1406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2T23:23:47Z</dcterms:created>
  <dc:creator>Administrador</dc:creator>
  <dc:description/>
  <dc:language>en-US</dc:language>
  <cp:lastModifiedBy>Administrador</cp:lastModifiedBy>
  <dcterms:modified xsi:type="dcterms:W3CDTF">2011-09-14T00:02:00Z</dcterms:modified>
  <cp:revision>44</cp:revision>
  <dc:subject/>
  <dc:title>Medios de transporte camiones, barcos y medios de seguridad</dc:title>
</cp:coreProperties>
</file>